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169-7F75-4D36-B09A-E1F09296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BF2-FC4D-4792-B85B-1F640B2F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906-E600-4C95-961C-BB81CB2B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7AB-C2B0-4F0A-A170-E78046C5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815-EFD2-40F9-BEB2-C5551011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37C-4EE2-479D-A25D-7BCB452E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3F0-26CE-4D3E-8BB2-27F86434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C53-DDA9-4580-9319-510A1659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F1B6-CEBE-4B42-BE99-04E54379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0B2-31EF-4FDC-A4B9-8D20E444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869-7C40-47CE-9AD5-3F83E5BC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446-91A7-4EB1-8C75-0711E5E3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62F1-7814-48F0-A87A-C4AFDDBE56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4508640"/>
            <a:ext cx="861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超声波发生器输出高频电能，使水槽底部晶体换能器发出超声波声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声能震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雾化罐底部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声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作用于雾化罐内的液体，使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药液成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微细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雾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通过导管随病人吸气而进入呼吸道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620120" cy="3733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19720" y="19810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药液雾化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9-21T21:42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