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9A7-E2A0-43D8-B3E2-6E54BFC8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17C-E826-418E-8AE6-7D1D682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930-A3FA-4AAF-A33F-F0925691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E4D-045B-45AE-A978-DC02C9C7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7F558-A575-4852-A78D-BC17F9FD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0BD36-A111-40A5-B11B-20EFD21A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B8901-FC71-4A9A-9218-97ABA2DA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2812B-D383-4037-B5DD-1C6AC09E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9DFD8-9E54-4F57-B7E9-D2CD6B3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13FB6-C1A7-4567-ACE0-C3FFAEB9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6A56-E249-4065-A3A6-A5930D6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D66-F674-474D-B134-5FA373A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98279-1D57-46E4-BE5A-00D3665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C0998-89F4-4ABC-8402-5D85C7F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AD179-50B8-4BCF-AD97-146C854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CC25-4EA8-4D2E-999F-964C8AA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AFEA-AD6F-406F-B91D-CE70F6B3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F41-3FB5-4A44-957D-FF88A7BE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CF8-5ADD-49AF-B2B2-0E8B16D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AF2-1329-42EC-854F-2D51CED3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3DF-A445-44A4-A5F2-153A80CD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978-7B3B-4384-92C2-1CBB924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0CB-DC5E-4BE5-A351-2D97EB0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1AA-5158-4C76-89B5-A3FF642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9877-6439-491F-98F5-AE23A50B2F2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D6C-2B86-41E5-B7BB-D5BEDD3A25A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617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2680" y="342864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海上风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02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8"/>
                </a:solidFill>
                <a:latin typeface="宋体"/>
              </a:rPr>
              <a:t>1948</a:t>
            </a:r>
            <a:r>
              <a:rPr b="1" lang="zh-CN" sz="2800" spc="-1" strike="noStrike">
                <a:solidFill>
                  <a:srgbClr val="000008"/>
                </a:solidFill>
                <a:latin typeface="宋体"/>
              </a:rPr>
              <a:t>年，一艘名为“乌兰格梅奇号”的荷兰货船，在通过马六甲海峡时，突然遇到海上风暴，当救助人员赶到时，船上所有人员都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莫明其妙地死了</a:t>
            </a:r>
            <a:r>
              <a:rPr b="1" lang="zh-CN" sz="2800" spc="-1" strike="noStrike">
                <a:solidFill>
                  <a:srgbClr val="000008"/>
                </a:solidFill>
                <a:latin typeface="宋体"/>
              </a:rPr>
              <a:t>。后经科学家们调查，才发现造成这场海难的罪魁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风暴与海面惊涛引起的次声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2280" y="-360"/>
            <a:ext cx="24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次声波的威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13:03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