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8A0-3D91-4BC6-9106-1E80E9C2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CB9-AFF4-468C-9518-3945D453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4E4-9FB2-4387-88EF-6F119CA6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2DF-290F-4EF3-813B-4F84ED7D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D8E-4AA7-435F-8048-975630A5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E4B-5F2A-4400-9541-D59DAEF8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0FE-4043-40C6-8577-904C846E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93A-431A-4197-ACBC-FFFA15CD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56E-AB58-4117-BB03-440E3972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B0F-3A5F-4763-B207-8C72DF24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C58-6404-4C92-8B50-FEC177B1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AE9-FED8-4DAE-9C9A-3D1620B3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9637-8BB2-4B49-B3B6-2F13984C67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897640"/>
            <a:ext cx="883944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声波炸弹就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次声波炸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次声波武器的一种。目前研制的次声波武器主要有两类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是神经型次声波武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它的振荡频率同人类大脑的阿尔法节律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赫）极为相近，产生共振时能强烈刺激大脑，使人神经错乱，癫狂不止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另一类是内脏器官型次声波武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其振荡频率与人体内脏器官的固有振荡频率相近，可使人的五脏六腑产生强烈共振，破坏人的平衡感和方向感，使人恶心、呕吐及剧烈不适而失去战斗力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次声波还有渗透性强的特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次声波炸弹一旦命中目标，转瞬之间，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方圆十几千米的地面上，所有的人将统统受到伤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次声波可穿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厚的混凝土和坦克装甲钢板，即使人员躲进地铁、防空洞或坦克、装甲车辆内也不能幸免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次声波弹和中子弹一样，只杀伤生物而不摧毁建筑物，但它的杀伤威力却大大超过中子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43840" y="-33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声波炸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9-21T13:10:4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