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924-ED00-4D9C-9EA6-80D661D4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AB9-7E14-4071-9ECC-C03C3CDD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1F8-19F1-4930-95DC-F4D335F4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2EA-033D-48D9-8912-B686FCC3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0FC-3EF0-43A7-8063-FCDD2BD8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46A-A916-41D2-AE86-F80C4867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0DE-D270-40B4-8E33-7A2AD021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68B-0E8C-4AD1-9C98-6A7E9EF3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6F3-F175-4563-AB88-E9422A74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838-426C-41C9-BAF5-E7B0B06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F42-6DE0-4F6C-B0FB-DC3D349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599-668E-496C-AC09-4541CF7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1AD7-4249-4778-AEE3-B4DEAF40C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43280" y="1734120"/>
            <a:ext cx="630072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隶书"/>
              </a:rPr>
              <a:t>         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隶书"/>
              </a:rPr>
              <a:t>海豚儿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英国肯特郡艾什福德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岁男童贾米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艾斯普兰德天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΢ȭхڢ, ڌ墬 Verdana"/>
              </a:rPr>
              <a:t>双目失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，不过，他在美国加利福尼亚州“回声定位法”专家丹尼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基什的教导下，迅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΢ȭхڢ, ڌ墬 Verdana"/>
              </a:rPr>
              <a:t>学会了像海豚或蝙蝠一样靠“回声”来辨别前方的物体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΢ȭхڢ, ڌ墬 Verdana"/>
              </a:rPr>
              <a:t>。如今，贾米只需靠舌头发出一些“咔嗒”声，然后就能通过回声“看见”前方的障碍物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΢ȭхڢ, ڌ墬 Verdana"/>
              </a:rPr>
              <a:t>现在即使没有母亲带路，他也能自由地在公园中奔跑玩耍，而不会撞上树木或电线杆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03320" y="50371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244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1T13:05:47Z</dcterms:modified>
  <cp:revision>2</cp:revision>
  <dc:subject/>
  <dc:title>PowerPoint Presentation</dc:title>
</cp:coreProperties>
</file>