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2A8-6A6E-4593-8BA0-FE978488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E78-F10C-4C3C-84FE-980BA9FC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790-F9EC-4487-A2C3-897E75CA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2F8-1C07-485A-AB9D-1B088C0E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DDC-0A5F-412A-B456-A4C0FE00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6B4-74D8-49FA-A960-D71D5CF5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E3F-F2E2-4C4E-9117-A00A02C4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CBD-FD75-4C6A-B67E-B499EE77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6DC-4EB2-4298-B2F2-567B7149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569-4EC5-4669-8274-C0E966A2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AAC-EB68-4108-B593-0117454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0A2-9935-47B3-94F4-1828A046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FE68-F372-46EC-920E-5FFC41BD56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-685800"/>
            <a:ext cx="5943600" cy="4921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45536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探鱼器使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声用声纳定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可探测水底状态、轮廓、构成。以及水深（从探头底面算起）。探鱼器在发出波后依靠声波碰触物体回传的时间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测量距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与此同时通过反射的声波信号，探鱼器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辨认出鱼的位置，大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2960" y="1890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探鱼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21T14:41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